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803-3865-4AF3-BE82-B8FFDF9C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B0B-8E58-4391-BC2C-9CEAD3F5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702-DFDF-4DF4-939E-5F5A0A5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BB5-8575-4271-A418-3584EE80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0D5-3EDB-47A2-8059-F249C40A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E16-3A8F-419C-8332-71FFB81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247-2FE0-48BC-A5CE-90F6083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F0D-17BA-47AA-BB8A-E5DCC8DB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5DA-3525-4038-A414-9BB922F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DF0-6D3A-44C7-92C5-F1590D6B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135-3FAD-424D-B8E5-177C1C2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C3A-190F-4A27-9440-712FBE2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C90-109B-453B-87D6-7323A7AA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y M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58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447920"/>
            <a:ext cx="86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T cell (E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cyt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ature T cell located in the thy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1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2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3 thymocyt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4 thymocyt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posi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nega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T ce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K1.1 (CD56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1 restri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Treg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1828800"/>
            <a:ext cx="90471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T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 (nTre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 T ce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 (help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ytotoxic perforin and granzyme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T cel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or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l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help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680" y="1523880"/>
            <a:ext cx="7305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 (Th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 to intracellular pathogens; 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2 (Th2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TA-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oral immunity; immunity to extracellular para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7 (Th17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produce IL-17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; immunity to extracellular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g 1 (Tr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10; (no signature 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Treg (iTreg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TGF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L-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cytotox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4320" y="1981080"/>
            <a:ext cx="8230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toxic T cells (CTL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zyme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m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GATA-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4. IL-13; less 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RO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17; ?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ress immun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14:05Z</dcterms:created>
  <dc:creator>Penelope Morel</dc:creator>
  <dc:description/>
  <dc:language>en-US</dc:language>
  <cp:lastModifiedBy>Penelope Morel</cp:lastModifiedBy>
  <dcterms:modified xsi:type="dcterms:W3CDTF">2008-05-13T12:28:47Z</dcterms:modified>
  <cp:revision>5</cp:revision>
  <dc:subject/>
  <dc:title>T cell ontology</dc:title>
</cp:coreProperties>
</file>